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FDE-937C-439B-96B3-04578BE8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E87-2886-4E47-BD18-44E2DB14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B3D-20B8-4D73-A868-210B960E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95E-7CAB-4181-AB05-B3EC9F52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606-37B9-48B7-B594-6972959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F14-3FE6-470C-AD31-86E3236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89A-6CC2-4762-B4A3-FD4DB27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B38-8DC5-45B9-96E5-EB2D20FA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D1C-E4A4-4C96-B67B-3F8EEEF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F8A-2A2D-46C9-B0A5-2131EC9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1E8-F795-4C6B-BC0E-71899D6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416-DFFA-42E7-8A96-EAD9C23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B04-761A-46AC-81A6-81E97185B8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motive and evocative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mo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voc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3164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ressing, appealing to or causing intense fe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nging strong images, memories or feelings to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ory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ual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3640" y="16002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gurative (i.e. not literal) language used to capture a particular mood or create a vivid visual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gurative language evoking/appealing to the five senses of sight, hearing, touch, taste, sm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 evoking/appealing to the senses, especially in an intimate or sexual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" y="162864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1600200"/>
            <a:ext cx="58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 using ‘like’, ‘as’, or ‘as if’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louds as fluffy as meri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meringue clouds floa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attributing human qualities to an inanimate objec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clouds shed bitter 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4:38:24Z</dcterms:modified>
  <cp:revision>77</cp:revision>
  <dc:subject/>
  <dc:title>La Belle Dame Sans Merci</dc:title>
</cp:coreProperties>
</file>